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E0EF-030C-45EF-924F-A1DF08DC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7F33-D7ED-429B-917E-3D716ED7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2BC748-6A43-4C24-9534-0709733E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30D29C-040E-4088-BCEA-E1C42984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0B1332-5073-4001-9E5C-B3B5D960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0B6C26-6973-49CB-AAE4-CF91164A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8570C6-F978-4A06-8391-07F25BFB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AE49A2-4A28-4120-9E99-49EA6CA4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6EF951-9B48-4102-B396-F902F334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6A14E6-E0A8-4F07-8001-5B85675C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47FAA2-F43C-4F7B-AFD8-BED3A574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68F7-257F-4938-A784-B4D9F16D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EE79-C656-40C0-B2C5-057FD1D1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9F179-4741-4847-B3D9-BBAF86DB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D85A3-28A3-47AD-86D4-1E8649A2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A3DD6-A656-42AE-9C5E-892AAC2E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B655A-1E57-46A7-A52D-ACA963E6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5C65D-730D-4A58-AF20-D634DB83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7FE78-0354-496F-8465-2CEA8B21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2A2B4-3108-40A9-B228-DC3024C4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7312-F3F0-4B61-BBFE-24ABD718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03A05-F45F-494D-89B4-4188FDC7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BA526-0824-435D-AE1C-A36410DE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C1EE9-D050-439B-99E6-FE199DB1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DA4D8-48BD-4838-AECE-E04A9040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D20C4-C55A-43E7-8448-3D91720E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C7DC0-8CB3-487C-B4B2-1BF38317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CAB73-A60C-4670-9A1F-CC678125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B25CD-87F7-4214-B3F0-D88E831A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5D56F-DC80-463E-A739-661418FA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68599-053D-4DA6-B660-526066B3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F972-1428-476C-8C08-FD24A82A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7AD76-52CF-4183-BE98-73E22CB4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C40B5-ADD1-45FA-9074-A500C124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F1F41-877F-4402-AA58-8B3C75CA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11D67-66CC-4929-AA2C-B9729102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6DD7E-7A29-46A3-B600-73B01E5B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0886A-463F-48C4-84B9-01063555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68845-EAA4-488F-A988-2D963511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D7A56D-BE44-41C2-82ED-C651F500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E97710-0871-4AF6-871D-1E457B5A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510A29-E3FB-47AF-9D51-A1EB0F27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1DF-7B9A-476C-854B-49F84B6A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341555-6738-490A-9035-9BDF3A81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B7CBC7-B8C6-4E1F-9206-DA37592F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1A816A-9832-4F45-ADC0-B205429B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2729AC-B622-4921-8DFA-38E84C08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C9B428-D085-4ACE-83D8-D073E97D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D858F4-8FF5-4E5A-8E9A-0FAEDBDF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C94143-4B21-4DA1-BC3F-9B6C83FC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696898-DE04-4547-AB1A-59952191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382A0D-36FE-417A-9F39-116B2B4B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84C5F-00DC-4EBD-9F70-62EAF3BA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9571-EB1B-4342-AC71-CC91D91D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121B4-A531-4CBA-A045-31593D48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BA14E-A0EF-4B0F-ADF4-1E250B56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90231-A4A3-418F-86EF-DC29F4C0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BB95D-472A-4B16-84E8-D0322688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8CBD4-06AF-47F3-98EA-0831AE66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B3723-8061-4835-BD74-D1CD6CFD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9D7F0-8892-4609-8183-817D06AC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AF8FC-4B70-4C45-8FFB-A7EE3CB7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F0F37-0473-4EDF-AF05-65C2CC7C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DAE8D-DD64-4D45-B84C-A3923027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182D-D9F4-4E16-A235-44949D0F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55066-C197-4026-8DD7-C0933ACD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A7466-31AF-4053-9C1E-1CBC84B8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7B04E-34C0-4BD6-9E1F-93847951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31FAC-1ACE-4410-A2AD-9A93F648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52F89-C297-4080-A3CC-C8880073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172D7-53ED-4E18-B0EB-AB7E8A0A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238F9-39AD-49EF-A37A-7258FF36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CAD9D-7269-4292-8D51-3FA37674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32624-1BEF-4870-8E6C-9B4AA443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01F3A-2C30-4503-934A-FCBE4801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508C-2C8F-425F-9923-2978B49A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0E6B8-837B-4CCA-9828-FDF1F238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ECF47-B783-4CA9-9CF7-E10E53BF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36978-7E4D-4920-95AD-4BFA2BD3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42CB6-EFCB-4C3E-9389-E49ED606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E726A-5120-4A1B-B95E-49913FFA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61139-1F59-4309-AED0-E37BF2D0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6A7FF-2D89-4BB4-BD0C-C96E8B88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3A960-639B-440B-BEE6-88A9A461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B95F4-2CEA-4A19-AB6D-6F6C8CF7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836A3-6F49-47E0-BD46-2EBA6ADB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9F5-79CB-4417-8CA0-B818B126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18E7C-1058-4657-B82C-1D661A01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EF92D-EE26-481F-B4A4-4EC90571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79FD6-E1B9-440F-B0E0-61FCADB4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BE4F7-275C-4DFB-BCC1-1DA32E7D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D2C0D-5BBB-4DE6-9064-60CF5B73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0FA6C7-6934-4459-A46C-3E32D5B9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058D24-084A-4845-AE7D-C0B21AE1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E3421A-A2FE-4A6F-9EAA-A5593F2E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E3ABFF-464B-493F-9505-2C36EEDE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98D6C2-01C3-48EB-822E-E4B0F6ED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A255-D1CE-407E-875D-8881EAAE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2D3329-D4F4-4316-A64A-FD8FFB94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8C514D-7106-4B51-860D-577CC292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221E65-FC02-46F0-ADAF-07D96E4F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ACDF7B-E8A8-472F-900A-22FB4446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D09887-F9F7-4956-9B24-A042B66D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DC772F-6BDA-45BF-96A8-6B9DE536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2CF803-80B5-4732-8469-6C4CCC2D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843037-7844-4BCC-89F2-CB362D6F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44F6E3-6F14-4F4F-9432-CF1D71E5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6217D2-8A27-4304-BB5A-5305A72F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8760" y="139680"/>
            <a:ext cx="8826480" cy="6585120"/>
            <a:chOff x="158760" y="139680"/>
            <a:chExt cx="8826480" cy="658512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BC9A7E-D074-45DA-ADD0-AF3A7DD4015C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BEB65-DF53-4138-AC54-C75817F9BC9B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D0B24-A671-4B3F-A16B-189BF4009341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9F774-FFD3-457D-A4D7-7B71EE2F9696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8760" y="139680"/>
            <a:ext cx="8826480" cy="6585120"/>
            <a:chOff x="158760" y="139680"/>
            <a:chExt cx="8826480" cy="658512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DBCB5-E58B-490B-A408-92EE8BE552D5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BDFD83-0C65-443D-BC07-4727FCF2B6E9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B895C-B769-4C27-88DD-065522B14FA4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197C7-2A7D-40D9-A816-905E809AC61A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8760" y="139680"/>
            <a:ext cx="8826480" cy="6585120"/>
            <a:chOff x="158760" y="139680"/>
            <a:chExt cx="8826480" cy="658512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C373F-5880-414A-BCA9-46AEDA83D7B1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0A96D-B549-4794-AA9C-BB4A18ABEC6B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8760" y="139680"/>
            <a:ext cx="8826480" cy="6585120"/>
            <a:chOff x="158760" y="139680"/>
            <a:chExt cx="8826480" cy="658512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38993-41AA-4EEF-B1D6-7D08E7CE0FCF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93369-9FAC-439D-BA5D-146720435017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8760" y="139680"/>
            <a:ext cx="8826480" cy="6585120"/>
            <a:chOff x="158760" y="139680"/>
            <a:chExt cx="8826480" cy="658512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E475F-6FA7-4A78-957B-9A8BA419EAD2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DCD63-3D58-4A89-9A50-1C96DED09F37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BF771-0053-4291-8D5A-6FE79AA7A20E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5DBC58-E188-4A82-9E24-EEA12525B0BC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AE751-C0CE-4AFF-B0E6-3DA8487D775B}" type="datetime">
              <a:rPr b="0" lang="en-US" sz="1300" spc="-1" strike="noStrike">
                <a:solidFill>
                  <a:srgbClr val="b9bbb2"/>
                </a:solidFill>
                <a:latin typeface="Rockwel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2B694-AA2F-4A11-97AA-365F3806103E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63680" y="378000"/>
            <a:ext cx="8235720" cy="22795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People of Canad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Rockwell"/>
              </a:rPr>
              <a:t>Skilled Worker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Rockwell"/>
              </a:rPr>
              <a:t>require 70 points in a complicated system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Rockwell"/>
              </a:rPr>
              <a:t>receive points for education, job training, experience, occupation, age, knowledge of English and French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Rockwell"/>
              </a:rPr>
              <a:t>Busines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Rockwell"/>
              </a:rPr>
              <a:t>require only 25 points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Rockwell"/>
              </a:rPr>
              <a:t>an ability and willingness to make significant financial contributions to the economy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2258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Rockwell"/>
              </a:rPr>
              <a:t>Have a member of their family already residing in the country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Rockwell"/>
              </a:rPr>
              <a:t>Family must financially sponsor the new immigrant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Rockwell"/>
              </a:rPr>
              <a:t>Less family immigrants are coming due to the financial risks and stricter government laws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2" name="Content Placeholder 4" descr="Family_reunification.jpg"/>
          <p:cNvPicPr/>
          <p:nvPr/>
        </p:nvPicPr>
        <p:blipFill>
          <a:blip r:embed="rId2"/>
          <a:srcRect l="-16780" t="0" r="-16780" b="0"/>
          <a:stretch/>
        </p:blipFill>
        <p:spPr>
          <a:xfrm>
            <a:off x="4648320" y="1646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424" name="Content Placeholder 4" descr="refugee.png"/>
          <p:cNvPicPr/>
          <p:nvPr/>
        </p:nvPicPr>
        <p:blipFill>
          <a:blip r:embed="rId2"/>
          <a:srcRect l="-2504" t="0" r="-2504" b="0"/>
          <a:stretch/>
        </p:blipFill>
        <p:spPr>
          <a:xfrm>
            <a:off x="457200" y="16462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Rockwell"/>
              </a:rPr>
              <a:t>Someone who fears persecution or death from their home country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Rockwell"/>
              </a:rPr>
              <a:t>Harassed for racial, religious, political reason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Rockwell"/>
              </a:rPr>
              <a:t>To escape natural disasters or war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Rockwell"/>
              </a:rPr>
              <a:t>It is estimated that in this century there will be more environmental refugees than those of war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7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Rockwell"/>
              </a:rPr>
              <a:t>People tend to settle in metropolitan areas because large, populous cities can provide job opportunities, entertainment facilities, religious and cultural institutions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7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ffff"/>
                </a:solidFill>
                <a:latin typeface="Rockwell"/>
              </a:rPr>
              <a:t>These factors make people feel safe and comfortable in an new surrounding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8" name="Content Placeholder 4" descr="Toronto.jpg"/>
          <p:cNvPicPr/>
          <p:nvPr/>
        </p:nvPicPr>
        <p:blipFill>
          <a:blip r:embed="rId2"/>
          <a:srcRect l="0" t="-20358" r="0" b="-20358"/>
          <a:stretch/>
        </p:blipFill>
        <p:spPr>
          <a:xfrm>
            <a:off x="4648320" y="1646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3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397" name="Content Placeholder 6" descr="multicult-pic.jpg"/>
          <p:cNvPicPr/>
          <p:nvPr/>
        </p:nvPicPr>
        <p:blipFill>
          <a:blip r:embed="rId2"/>
          <a:srcRect l="0" t="-9471" r="0" b="-9471"/>
          <a:stretch/>
        </p:blipFill>
        <p:spPr>
          <a:xfrm>
            <a:off x="457200" y="16462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mmigrants, or descendants of immigrants make up 98% of Canadians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r this reason, Canada is often called a </a:t>
            </a:r>
            <a:r>
              <a:rPr b="0" lang="ja-JP" sz="28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tossed salad</a:t>
            </a:r>
            <a:r>
              <a:rPr b="0" lang="ja-JP" sz="2800" spc="-1" strike="noStrike">
                <a:solidFill>
                  <a:srgbClr val="ffffff"/>
                </a:solidFill>
                <a:latin typeface="Rockwel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a </a:t>
            </a:r>
            <a:r>
              <a:rPr b="0" lang="ja-JP" sz="28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cultural mosaic</a:t>
            </a:r>
            <a:r>
              <a:rPr b="0" lang="ja-JP" sz="2800" spc="-1" strike="noStrike">
                <a:solidFill>
                  <a:srgbClr val="ffffff"/>
                </a:solidFill>
                <a:latin typeface="Rockwel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or a </a:t>
            </a:r>
            <a:r>
              <a:rPr b="0" lang="ja-JP" sz="28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multicultural society</a:t>
            </a:r>
            <a:r>
              <a:rPr b="0" lang="ja-JP" sz="2800" spc="-1" strike="noStrike">
                <a:solidFill>
                  <a:srgbClr val="ffffff"/>
                </a:solidFill>
                <a:latin typeface="Rockwel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4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400" name="Content Placeholder 6" descr="canadian-immigration-face.jpg"/>
          <p:cNvPicPr/>
          <p:nvPr/>
        </p:nvPicPr>
        <p:blipFill>
          <a:blip r:embed="rId2"/>
          <a:srcRect l="-10278" t="0" r="-10278" b="0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2081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Rockwell"/>
              </a:rPr>
              <a:t>Immigration</a:t>
            </a:r>
            <a:r>
              <a:rPr b="0" lang="en-CA" sz="3200" spc="-1" strike="noStrike">
                <a:solidFill>
                  <a:srgbClr val="ffffff"/>
                </a:solidFill>
                <a:latin typeface="Rockwell"/>
              </a:rPr>
              <a:t> is when you ar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en-CA" sz="3200" spc="-1" strike="noStrike">
                <a:solidFill>
                  <a:srgbClr val="ffffff"/>
                </a:solidFill>
                <a:latin typeface="Rockwell"/>
              </a:rPr>
              <a:t>arriving</a:t>
            </a:r>
            <a:r>
              <a:rPr b="0" lang="en-CA" sz="3200" spc="-1" strike="noStrike">
                <a:solidFill>
                  <a:srgbClr val="ffffff"/>
                </a:solidFill>
                <a:latin typeface="Rockwell"/>
              </a:rPr>
              <a:t> into a new country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Rockwell"/>
              </a:rPr>
              <a:t>Emigration</a:t>
            </a:r>
            <a:r>
              <a:rPr b="0" i="1" lang="en-CA" sz="3200" spc="-1" strike="noStrike">
                <a:solidFill>
                  <a:srgbClr val="ffffff"/>
                </a:solidFill>
                <a:latin typeface="Rockwell"/>
              </a:rPr>
              <a:t> is when you are</a:t>
            </a:r>
            <a:r>
              <a:rPr b="0" lang="en-CA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n-CA" sz="3200" spc="-1" strike="noStrike">
                <a:solidFill>
                  <a:srgbClr val="ffffff"/>
                </a:solidFill>
                <a:latin typeface="Rockwell"/>
              </a:rPr>
              <a:t>leaving</a:t>
            </a:r>
            <a:r>
              <a:rPr b="0" lang="en-CA" sz="3200" spc="-1" strike="noStrike">
                <a:solidFill>
                  <a:srgbClr val="ffffff"/>
                </a:solidFill>
                <a:latin typeface="Rockwell"/>
              </a:rPr>
              <a:t> your country of origi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2081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Rockwell"/>
              </a:rPr>
              <a:t>Push factor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Rockwell"/>
              </a:rPr>
              <a:t>Reasons to leave your country such as losing a job, high taxes, war, disease, corrupt governments, bad education and undesirable climate condition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407" name="Content Placeholder 5" descr="money.png"/>
          <p:cNvPicPr/>
          <p:nvPr/>
        </p:nvPicPr>
        <p:blipFill>
          <a:blip r:embed="rId2"/>
          <a:srcRect l="0" t="-27291" r="0" b="-27291"/>
          <a:stretch/>
        </p:blipFill>
        <p:spPr>
          <a:xfrm>
            <a:off x="457200" y="164628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08" name="Content Placeholder 6" descr="climate.png"/>
          <p:cNvPicPr/>
          <p:nvPr/>
        </p:nvPicPr>
        <p:blipFill>
          <a:blip r:embed="rId3"/>
          <a:srcRect l="0" t="-3297" r="0" b="-3297"/>
          <a:stretch/>
        </p:blipFill>
        <p:spPr>
          <a:xfrm>
            <a:off x="4648320" y="1646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2081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Rockwell"/>
              </a:rPr>
              <a:t>Pull factor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Rockwell"/>
              </a:rPr>
              <a:t>Reasons why you are drawn to another country such as a better job, lower taxes, lack of war, disease and corrupt governments, good education and attractive climate condit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3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412" name="Content Placeholder 6" descr="money2.png"/>
          <p:cNvPicPr/>
          <p:nvPr/>
        </p:nvPicPr>
        <p:blipFill>
          <a:blip r:embed="rId2"/>
          <a:srcRect l="0" t="-27415" r="0" b="-27415"/>
          <a:stretch/>
        </p:blipFill>
        <p:spPr>
          <a:xfrm>
            <a:off x="457200" y="164628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13" name="Content Placeholder 7" descr="Climate2.png"/>
          <p:cNvPicPr/>
          <p:nvPr/>
        </p:nvPicPr>
        <p:blipFill>
          <a:blip r:embed="rId3"/>
          <a:srcRect l="0" t="-33491" r="0" b="-33491"/>
          <a:stretch/>
        </p:blipFill>
        <p:spPr>
          <a:xfrm>
            <a:off x="4648320" y="1646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Independent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Family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Refugees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6" name="Content Placeholder 4" descr="plane.png"/>
          <p:cNvPicPr/>
          <p:nvPr/>
        </p:nvPicPr>
        <p:blipFill>
          <a:blip r:embed="rId2"/>
          <a:srcRect l="0" t="-31635" r="0" b="-31635"/>
          <a:stretch/>
        </p:blipFill>
        <p:spPr>
          <a:xfrm>
            <a:off x="4648320" y="1646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20:55:57Z</dcterms:created>
  <dc:creator>Local Administrator</dc:creator>
  <dc:description/>
  <dc:language>en-US</dc:language>
  <cp:lastModifiedBy>Jody Michael Robinson</cp:lastModifiedBy>
  <dcterms:modified xsi:type="dcterms:W3CDTF">2014-09-20T15:15:15Z</dcterms:modified>
  <cp:revision>3</cp:revision>
  <dc:subject/>
  <dc:title>Population And Immigration</dc:title>
</cp:coreProperties>
</file>